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DB66-F8D5-4AF4-A893-B74319BF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7098-A160-475A-88F4-E366F964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0EF5-F46F-4671-9458-2CAAA4A5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DDC6-CF37-4B4D-912D-2C15753E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1120-A8E4-4CBA-844F-1491A88C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E2E-B7CF-460D-B1E7-D28342F0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2836-50A9-4943-809C-51A377A5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989-0315-4F27-8587-947A13CA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E7C2-2685-40B3-A3F7-CB02C0B3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887E-6831-4A68-8249-E72F1B7A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685F-2513-4BA7-BCDC-3D101BA8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BD82-589C-466D-BFCC-EFCB35BC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5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A672-9450-4574-BB91-2C3C82AC59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5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27200" y="514440"/>
            <a:ext cx="1114200" cy="1116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24"/>
          <p:cNvSpPr/>
          <p:nvPr/>
        </p:nvSpPr>
        <p:spPr>
          <a:xfrm>
            <a:off x="3564000" y="2131920"/>
            <a:ext cx="529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七届蓝桥杯指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24"/>
          <p:cNvSpPr/>
          <p:nvPr/>
        </p:nvSpPr>
        <p:spPr>
          <a:xfrm>
            <a:off x="5141880" y="3216240"/>
            <a:ext cx="19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2016-1-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5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24"/>
          <p:cNvSpPr/>
          <p:nvPr/>
        </p:nvSpPr>
        <p:spPr>
          <a:xfrm>
            <a:off x="838080" y="358920"/>
            <a:ext cx="62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经验分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921960" y="1123560"/>
            <a:ext cx="2337480" cy="13320"/>
          </a:xfrm>
          <a:prstGeom prst="straightConnector1">
            <a:avLst/>
          </a:prstGeom>
          <a:ln w="6480">
            <a:solidFill>
              <a:srgbClr val="ffffff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41520" y="123660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一些细节问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1419120" y="1800360"/>
            <a:ext cx="9694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把历年模拟题做一遍，比赛无非是各个模块的组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注意协调各个模块，因为单个模块你可以调试的很好，加起来就会有意想不到的问题，所以一定要动手练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5.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熟悉一些简单电路的绘制（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Altium Designer/Protel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例如：①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运放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的一些基本电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②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三极管的一些基本电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③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电机驱动电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④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继电器电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5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24"/>
          <p:cNvSpPr/>
          <p:nvPr/>
        </p:nvSpPr>
        <p:spPr>
          <a:xfrm>
            <a:off x="4707000" y="2514600"/>
            <a:ext cx="24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254560" y="3465360"/>
            <a:ext cx="11145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5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文本框 24"/>
          <p:cNvSpPr/>
          <p:nvPr/>
        </p:nvSpPr>
        <p:spPr>
          <a:xfrm>
            <a:off x="2354400" y="2057400"/>
            <a:ext cx="13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空心弧 28"/>
          <p:cNvSpPr/>
          <p:nvPr/>
        </p:nvSpPr>
        <p:spPr>
          <a:xfrm rot="7561800">
            <a:off x="1702440" y="1359360"/>
            <a:ext cx="2071440" cy="2070000"/>
          </a:xfrm>
          <a:custGeom>
            <a:avLst/>
            <a:gdLst/>
            <a:ahLst/>
            <a:rect l="l" t="t" r="r" b="b"/>
            <a:pathLst>
              <a:path w="2070399" h="2070399">
                <a:moveTo>
                  <a:pt x="177978" y="1615552"/>
                </a:moveTo>
                <a:cubicBezTo>
                  <a:pt x="-114491" y="1183554"/>
                  <a:pt x="-39806" y="601425"/>
                  <a:pt x="352243" y="257248"/>
                </a:cubicBezTo>
                <a:cubicBezTo>
                  <a:pt x="744292" y="-86929"/>
                  <a:pt x="1331192" y="-85598"/>
                  <a:pt x="1721677" y="260352"/>
                </a:cubicBezTo>
                <a:cubicBezTo>
                  <a:pt x="2112162" y="606303"/>
                  <a:pt x="2184207" y="1188765"/>
                  <a:pt x="1889783" y="1619432"/>
                </a:cubicBezTo>
                <a:lnTo>
                  <a:pt x="1889782" y="1619432"/>
                </a:lnTo>
                <a:cubicBezTo>
                  <a:pt x="2184207" y="1188764"/>
                  <a:pt x="2112161" y="606302"/>
                  <a:pt x="1721676" y="260352"/>
                </a:cubicBezTo>
                <a:cubicBezTo>
                  <a:pt x="1331191" y="-85599"/>
                  <a:pt x="744292" y="-86929"/>
                  <a:pt x="352242" y="257248"/>
                </a:cubicBezTo>
                <a:cubicBezTo>
                  <a:pt x="-39807" y="601425"/>
                  <a:pt x="-114492" y="1183554"/>
                  <a:pt x="177977" y="1615552"/>
                </a:cubicBezTo>
                <a:lnTo>
                  <a:pt x="177978" y="1615552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003320" y="874440"/>
            <a:ext cx="1846080" cy="1845720"/>
            <a:chOff x="1003320" y="874440"/>
            <a:chExt cx="1846080" cy="1845720"/>
          </a:xfrm>
        </p:grpSpPr>
        <p:sp>
          <p:nvSpPr>
            <p:cNvPr id="47" name="椭圆 6"/>
            <p:cNvSpPr/>
            <p:nvPr/>
          </p:nvSpPr>
          <p:spPr>
            <a:xfrm rot="18302400">
              <a:off x="1263600" y="1134360"/>
              <a:ext cx="1324800" cy="1325520"/>
            </a:xfrm>
            <a:prstGeom prst="ellipse">
              <a:avLst/>
            </a:prstGeom>
            <a:solidFill>
              <a:srgbClr val="db7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直接连接符 8"/>
            <p:cNvSpPr/>
            <p:nvPr/>
          </p:nvSpPr>
          <p:spPr>
            <a:xfrm flipV="1">
              <a:off x="1311840" y="1590120"/>
              <a:ext cx="304560" cy="457920"/>
            </a:xfrm>
            <a:prstGeom prst="line">
              <a:avLst/>
            </a:prstGeom>
            <a:ln w="442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任意多边形 19"/>
            <p:cNvSpPr/>
            <p:nvPr/>
          </p:nvSpPr>
          <p:spPr>
            <a:xfrm rot="18302400">
              <a:off x="1725120" y="1813680"/>
              <a:ext cx="1098000" cy="468360"/>
            </a:xfrm>
            <a:custGeom>
              <a:avLst/>
              <a:gdLst/>
              <a:ahLst/>
              <a:rect l="l" t="t" r="r" b="b"/>
              <a:pathLst>
                <a:path w="1646438" h="701643">
                  <a:moveTo>
                    <a:pt x="273817" y="0"/>
                  </a:moveTo>
                  <a:lnTo>
                    <a:pt x="0" y="250524"/>
                  </a:lnTo>
                  <a:lnTo>
                    <a:pt x="105736" y="390516"/>
                  </a:lnTo>
                  <a:cubicBezTo>
                    <a:pt x="243140" y="516730"/>
                    <a:pt x="234841" y="497242"/>
                    <a:pt x="299394" y="550605"/>
                  </a:cubicBezTo>
                  <a:cubicBezTo>
                    <a:pt x="362729" y="586231"/>
                    <a:pt x="368287" y="586687"/>
                    <a:pt x="499448" y="639898"/>
                  </a:cubicBezTo>
                  <a:cubicBezTo>
                    <a:pt x="679862" y="702396"/>
                    <a:pt x="689453" y="686856"/>
                    <a:pt x="784456" y="699274"/>
                  </a:cubicBezTo>
                  <a:cubicBezTo>
                    <a:pt x="879937" y="702636"/>
                    <a:pt x="910213" y="706430"/>
                    <a:pt x="1063526" y="679863"/>
                  </a:cubicBezTo>
                  <a:cubicBezTo>
                    <a:pt x="1264949" y="627719"/>
                    <a:pt x="1258033" y="615712"/>
                    <a:pt x="1353949" y="563622"/>
                  </a:cubicBezTo>
                  <a:cubicBezTo>
                    <a:pt x="1433045" y="500709"/>
                    <a:pt x="1477726" y="462377"/>
                    <a:pt x="1539615" y="411754"/>
                  </a:cubicBezTo>
                  <a:cubicBezTo>
                    <a:pt x="1607898" y="340578"/>
                    <a:pt x="1610812" y="324723"/>
                    <a:pt x="1646438" y="281180"/>
                  </a:cubicBezTo>
                  <a:lnTo>
                    <a:pt x="1393751" y="3654"/>
                  </a:lnTo>
                  <a:lnTo>
                    <a:pt x="273817" y="0"/>
                  </a:lnTo>
                  <a:close/>
                </a:path>
              </a:pathLst>
            </a:custGeom>
            <a:gradFill rotWithShape="0">
              <a:gsLst>
                <a:gs pos="0">
                  <a:srgbClr val="f3d255"/>
                </a:gs>
                <a:gs pos="100000">
                  <a:srgbClr val="f7fa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饼形 15"/>
            <p:cNvSpPr/>
            <p:nvPr/>
          </p:nvSpPr>
          <p:spPr>
            <a:xfrm rot="12902400">
              <a:off x="1927080" y="1751040"/>
              <a:ext cx="301680" cy="301680"/>
            </a:xfrm>
            <a:custGeom>
              <a:avLst/>
              <a:gdLst/>
              <a:ahLst/>
              <a:rect l="l" t="t" r="r" b="b"/>
              <a:pathLst>
                <a:path w="431013" h="431013">
                  <a:moveTo>
                    <a:pt x="215507" y="431013"/>
                  </a:moveTo>
                  <a:cubicBezTo>
                    <a:pt x="138514" y="431013"/>
                    <a:pt x="67369" y="389938"/>
                    <a:pt x="28872" y="323260"/>
                  </a:cubicBezTo>
                  <a:cubicBezTo>
                    <a:pt x="-9625" y="256582"/>
                    <a:pt x="-9625" y="174431"/>
                    <a:pt x="28872" y="107753"/>
                  </a:cubicBezTo>
                  <a:cubicBezTo>
                    <a:pt x="67369" y="41075"/>
                    <a:pt x="138513" y="-1"/>
                    <a:pt x="215507" y="-1"/>
                  </a:cubicBezTo>
                  <a:lnTo>
                    <a:pt x="215507" y="215507"/>
                  </a:lnTo>
                  <a:lnTo>
                    <a:pt x="215507" y="431013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矩形 9"/>
            <p:cNvSpPr/>
            <p:nvPr/>
          </p:nvSpPr>
          <p:spPr>
            <a:xfrm rot="18302400">
              <a:off x="1628280" y="1620720"/>
              <a:ext cx="137520" cy="199800"/>
            </a:xfrm>
            <a:prstGeom prst="rect">
              <a:avLst/>
            </a:prstGeom>
            <a:solidFill>
              <a:srgbClr val="1d1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矩形 10"/>
            <p:cNvSpPr/>
            <p:nvPr/>
          </p:nvSpPr>
          <p:spPr>
            <a:xfrm rot="18302400">
              <a:off x="1707480" y="1508040"/>
              <a:ext cx="137520" cy="199800"/>
            </a:xfrm>
            <a:prstGeom prst="rect">
              <a:avLst/>
            </a:pr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饼形 12"/>
            <p:cNvSpPr/>
            <p:nvPr/>
          </p:nvSpPr>
          <p:spPr>
            <a:xfrm rot="18302400">
              <a:off x="1717560" y="1528200"/>
              <a:ext cx="754200" cy="754560"/>
            </a:xfrm>
            <a:custGeom>
              <a:avLst/>
              <a:gdLst/>
              <a:ahLst/>
              <a:rect l="l" t="t" r="r" b="b"/>
              <a:pathLst>
                <a:path w="1077532" h="1077532">
                  <a:moveTo>
                    <a:pt x="15" y="534781"/>
                  </a:moveTo>
                  <a:cubicBezTo>
                    <a:pt x="2205" y="238792"/>
                    <a:pt x="242769" y="0"/>
                    <a:pt x="538766" y="0"/>
                  </a:cubicBezTo>
                  <a:lnTo>
                    <a:pt x="538766" y="538766"/>
                  </a:lnTo>
                  <a:lnTo>
                    <a:pt x="15" y="534781"/>
                  </a:lnTo>
                  <a:close/>
                </a:path>
              </a:pathLst>
            </a:custGeom>
            <a:solidFill>
              <a:srgbClr val="1d1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饼形 13"/>
            <p:cNvSpPr/>
            <p:nvPr/>
          </p:nvSpPr>
          <p:spPr>
            <a:xfrm flipH="1" rot="18303000">
              <a:off x="1712520" y="1534680"/>
              <a:ext cx="754200" cy="754560"/>
            </a:xfrm>
            <a:custGeom>
              <a:avLst/>
              <a:gdLst/>
              <a:ahLst/>
              <a:rect l="l" t="t" r="r" b="b"/>
              <a:pathLst>
                <a:path w="1077532" h="1077532">
                  <a:moveTo>
                    <a:pt x="15" y="534781"/>
                  </a:moveTo>
                  <a:cubicBezTo>
                    <a:pt x="2205" y="238792"/>
                    <a:pt x="242769" y="0"/>
                    <a:pt x="538766" y="0"/>
                  </a:cubicBezTo>
                  <a:lnTo>
                    <a:pt x="538766" y="538766"/>
                  </a:lnTo>
                  <a:lnTo>
                    <a:pt x="15" y="534781"/>
                  </a:lnTo>
                  <a:close/>
                </a:path>
              </a:pathLst>
            </a:custGeom>
            <a:solidFill>
              <a:srgbClr val="24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饼形 3"/>
            <p:cNvSpPr/>
            <p:nvPr/>
          </p:nvSpPr>
          <p:spPr>
            <a:xfrm rot="2031600">
              <a:off x="1542960" y="1504440"/>
              <a:ext cx="231120" cy="205200"/>
            </a:xfrm>
            <a:custGeom>
              <a:avLst/>
              <a:gdLst/>
              <a:ahLst/>
              <a:rect l="l" t="t" r="r" b="b"/>
              <a:pathLst>
                <a:path w="330307" h="293191">
                  <a:moveTo>
                    <a:pt x="158912" y="293086"/>
                  </a:moveTo>
                  <a:cubicBezTo>
                    <a:pt x="68654" y="290056"/>
                    <a:pt x="-2119" y="223229"/>
                    <a:pt x="47" y="143079"/>
                  </a:cubicBezTo>
                  <a:cubicBezTo>
                    <a:pt x="2197" y="63509"/>
                    <a:pt x="75485" y="-1"/>
                    <a:pt x="165154" y="-1"/>
                  </a:cubicBezTo>
                  <a:lnTo>
                    <a:pt x="165154" y="146596"/>
                  </a:lnTo>
                  <a:lnTo>
                    <a:pt x="158912" y="293086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文本框 31"/>
          <p:cNvSpPr/>
          <p:nvPr/>
        </p:nvSpPr>
        <p:spPr>
          <a:xfrm>
            <a:off x="5378400" y="22161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比赛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756320" y="2171880"/>
            <a:ext cx="536400" cy="543240"/>
            <a:chOff x="4756320" y="2171880"/>
            <a:chExt cx="536400" cy="543240"/>
          </a:xfrm>
        </p:grpSpPr>
        <p:sp>
          <p:nvSpPr>
            <p:cNvPr id="58" name="同心圆 14"/>
            <p:cNvSpPr/>
            <p:nvPr/>
          </p:nvSpPr>
          <p:spPr>
            <a:xfrm>
              <a:off x="4756320" y="2171880"/>
              <a:ext cx="536400" cy="536400"/>
            </a:xfrm>
            <a:custGeom>
              <a:avLst/>
              <a:gdLst/>
              <a:ahLst/>
              <a:rect l="l" t="t" r="r" b="b"/>
              <a:pathLst>
                <a:path w="536498" h="536498">
                  <a:moveTo>
                    <a:pt x="0" y="268249"/>
                  </a:moveTo>
                  <a:cubicBezTo>
                    <a:pt x="0" y="120099"/>
                    <a:pt x="120099" y="0"/>
                    <a:pt x="268249" y="0"/>
                  </a:cubicBezTo>
                  <a:cubicBezTo>
                    <a:pt x="416399" y="0"/>
                    <a:pt x="536498" y="120099"/>
                    <a:pt x="536498" y="268249"/>
                  </a:cubicBezTo>
                  <a:cubicBezTo>
                    <a:pt x="536498" y="416399"/>
                    <a:pt x="416399" y="536498"/>
                    <a:pt x="268249" y="536498"/>
                  </a:cubicBezTo>
                  <a:cubicBezTo>
                    <a:pt x="120099" y="536498"/>
                    <a:pt x="0" y="416399"/>
                    <a:pt x="0" y="268249"/>
                  </a:cubicBezTo>
                  <a:close/>
                  <a:moveTo>
                    <a:pt x="0" y="268249"/>
                  </a:moveTo>
                  <a:cubicBezTo>
                    <a:pt x="0" y="416399"/>
                    <a:pt x="120099" y="536498"/>
                    <a:pt x="268249" y="536498"/>
                  </a:cubicBezTo>
                  <a:cubicBezTo>
                    <a:pt x="416399" y="536498"/>
                    <a:pt x="536498" y="416399"/>
                    <a:pt x="536498" y="268249"/>
                  </a:cubicBezTo>
                  <a:cubicBezTo>
                    <a:pt x="536498" y="120099"/>
                    <a:pt x="416399" y="0"/>
                    <a:pt x="268249" y="0"/>
                  </a:cubicBezTo>
                  <a:cubicBezTo>
                    <a:pt x="120099" y="0"/>
                    <a:pt x="0" y="120099"/>
                    <a:pt x="0" y="268249"/>
                  </a:cubicBezTo>
                  <a:close/>
                </a:path>
              </a:pathLst>
            </a:custGeom>
            <a:solidFill>
              <a:srgbClr val="5b9bd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文本框 16"/>
            <p:cNvSpPr/>
            <p:nvPr/>
          </p:nvSpPr>
          <p:spPr>
            <a:xfrm>
              <a:off x="4847760" y="2194560"/>
              <a:ext cx="36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756320" y="3208320"/>
            <a:ext cx="536400" cy="543240"/>
            <a:chOff x="4756320" y="3208320"/>
            <a:chExt cx="536400" cy="543240"/>
          </a:xfrm>
        </p:grpSpPr>
        <p:sp>
          <p:nvSpPr>
            <p:cNvPr id="61" name="同心圆 32"/>
            <p:cNvSpPr/>
            <p:nvPr/>
          </p:nvSpPr>
          <p:spPr>
            <a:xfrm>
              <a:off x="4756320" y="3208320"/>
              <a:ext cx="536400" cy="536760"/>
            </a:xfrm>
            <a:custGeom>
              <a:avLst/>
              <a:gdLst/>
              <a:ahLst/>
              <a:rect l="l" t="t" r="r" b="b"/>
              <a:pathLst>
                <a:path w="536498" h="536498">
                  <a:moveTo>
                    <a:pt x="0" y="268249"/>
                  </a:moveTo>
                  <a:cubicBezTo>
                    <a:pt x="0" y="120099"/>
                    <a:pt x="120099" y="0"/>
                    <a:pt x="268249" y="0"/>
                  </a:cubicBezTo>
                  <a:cubicBezTo>
                    <a:pt x="416399" y="0"/>
                    <a:pt x="536498" y="120099"/>
                    <a:pt x="536498" y="268249"/>
                  </a:cubicBezTo>
                  <a:cubicBezTo>
                    <a:pt x="536498" y="416399"/>
                    <a:pt x="416399" y="536498"/>
                    <a:pt x="268249" y="536498"/>
                  </a:cubicBezTo>
                  <a:cubicBezTo>
                    <a:pt x="120099" y="536498"/>
                    <a:pt x="0" y="416399"/>
                    <a:pt x="0" y="268249"/>
                  </a:cubicBezTo>
                  <a:close/>
                  <a:moveTo>
                    <a:pt x="0" y="268249"/>
                  </a:moveTo>
                  <a:cubicBezTo>
                    <a:pt x="0" y="416399"/>
                    <a:pt x="120099" y="536498"/>
                    <a:pt x="268249" y="536498"/>
                  </a:cubicBezTo>
                  <a:cubicBezTo>
                    <a:pt x="416399" y="536498"/>
                    <a:pt x="536498" y="416399"/>
                    <a:pt x="536498" y="268249"/>
                  </a:cubicBezTo>
                  <a:cubicBezTo>
                    <a:pt x="536498" y="120099"/>
                    <a:pt x="416399" y="0"/>
                    <a:pt x="268249" y="0"/>
                  </a:cubicBezTo>
                  <a:cubicBezTo>
                    <a:pt x="120099" y="0"/>
                    <a:pt x="0" y="120099"/>
                    <a:pt x="0" y="268249"/>
                  </a:cubicBezTo>
                  <a:close/>
                </a:path>
              </a:pathLst>
            </a:custGeom>
            <a:solidFill>
              <a:srgbClr val="5b9bd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文本框 33"/>
            <p:cNvSpPr/>
            <p:nvPr/>
          </p:nvSpPr>
          <p:spPr>
            <a:xfrm>
              <a:off x="4847760" y="3231000"/>
              <a:ext cx="36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文本框 31"/>
          <p:cNvSpPr/>
          <p:nvPr/>
        </p:nvSpPr>
        <p:spPr>
          <a:xfrm>
            <a:off x="5367240" y="3259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准备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756320" y="4227480"/>
            <a:ext cx="536400" cy="543240"/>
            <a:chOff x="4756320" y="4227480"/>
            <a:chExt cx="536400" cy="543240"/>
          </a:xfrm>
        </p:grpSpPr>
        <p:sp>
          <p:nvSpPr>
            <p:cNvPr id="65" name="同心圆 36"/>
            <p:cNvSpPr/>
            <p:nvPr/>
          </p:nvSpPr>
          <p:spPr>
            <a:xfrm>
              <a:off x="4756320" y="4227480"/>
              <a:ext cx="536400" cy="536760"/>
            </a:xfrm>
            <a:custGeom>
              <a:avLst/>
              <a:gdLst/>
              <a:ahLst/>
              <a:rect l="l" t="t" r="r" b="b"/>
              <a:pathLst>
                <a:path w="536498" h="536498">
                  <a:moveTo>
                    <a:pt x="0" y="268249"/>
                  </a:moveTo>
                  <a:cubicBezTo>
                    <a:pt x="0" y="120099"/>
                    <a:pt x="120099" y="0"/>
                    <a:pt x="268249" y="0"/>
                  </a:cubicBezTo>
                  <a:cubicBezTo>
                    <a:pt x="416399" y="0"/>
                    <a:pt x="536498" y="120099"/>
                    <a:pt x="536498" y="268249"/>
                  </a:cubicBezTo>
                  <a:cubicBezTo>
                    <a:pt x="536498" y="416399"/>
                    <a:pt x="416399" y="536498"/>
                    <a:pt x="268249" y="536498"/>
                  </a:cubicBezTo>
                  <a:cubicBezTo>
                    <a:pt x="120099" y="536498"/>
                    <a:pt x="0" y="416399"/>
                    <a:pt x="0" y="268249"/>
                  </a:cubicBezTo>
                  <a:close/>
                  <a:moveTo>
                    <a:pt x="0" y="268249"/>
                  </a:moveTo>
                  <a:cubicBezTo>
                    <a:pt x="0" y="416399"/>
                    <a:pt x="120099" y="536498"/>
                    <a:pt x="268249" y="536498"/>
                  </a:cubicBezTo>
                  <a:cubicBezTo>
                    <a:pt x="416399" y="536498"/>
                    <a:pt x="536498" y="416399"/>
                    <a:pt x="536498" y="268249"/>
                  </a:cubicBezTo>
                  <a:cubicBezTo>
                    <a:pt x="536498" y="120099"/>
                    <a:pt x="416399" y="0"/>
                    <a:pt x="268249" y="0"/>
                  </a:cubicBezTo>
                  <a:cubicBezTo>
                    <a:pt x="120099" y="0"/>
                    <a:pt x="0" y="120099"/>
                    <a:pt x="0" y="268249"/>
                  </a:cubicBezTo>
                  <a:close/>
                </a:path>
              </a:pathLst>
            </a:custGeom>
            <a:solidFill>
              <a:srgbClr val="5b9bd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文本框 37"/>
            <p:cNvSpPr/>
            <p:nvPr/>
          </p:nvSpPr>
          <p:spPr>
            <a:xfrm>
              <a:off x="4847760" y="4250160"/>
              <a:ext cx="36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文本框 31"/>
          <p:cNvSpPr/>
          <p:nvPr/>
        </p:nvSpPr>
        <p:spPr>
          <a:xfrm>
            <a:off x="5356080" y="4268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经验分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5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24"/>
          <p:cNvSpPr/>
          <p:nvPr/>
        </p:nvSpPr>
        <p:spPr>
          <a:xfrm>
            <a:off x="838080" y="358920"/>
            <a:ext cx="62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比赛简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"/>
          <p:cNvCxnSpPr/>
          <p:nvPr/>
        </p:nvCxnSpPr>
        <p:spPr>
          <a:xfrm>
            <a:off x="921960" y="1123560"/>
            <a:ext cx="2337480" cy="13320"/>
          </a:xfrm>
          <a:prstGeom prst="straightConnector1">
            <a:avLst/>
          </a:prstGeom>
          <a:ln w="6480">
            <a:solidFill>
              <a:srgbClr val="ffffff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1407960" y="1727280"/>
            <a:ext cx="9182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采用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IAP15F2K61S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作为省赛指定单片机芯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省赛竞赛和训练平台为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CT107D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开发板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比赛时间：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小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比赛形式： 以开发板为基础进行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编程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完成相关任务 和 相关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电路设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5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文本框 24"/>
          <p:cNvSpPr/>
          <p:nvPr/>
        </p:nvSpPr>
        <p:spPr>
          <a:xfrm>
            <a:off x="838080" y="358920"/>
            <a:ext cx="62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准备方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/>
          <p:nvPr/>
        </p:nvCxnSpPr>
        <p:spPr>
          <a:xfrm>
            <a:off x="921960" y="1123560"/>
            <a:ext cx="2337480" cy="13320"/>
          </a:xfrm>
          <a:prstGeom prst="straightConnector1">
            <a:avLst/>
          </a:prstGeom>
          <a:ln w="6480">
            <a:solidFill>
              <a:srgbClr val="ffffff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587520" y="123660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熟悉单片机功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2217600" y="1898640"/>
            <a:ext cx="668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定时器（定时、中断、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捕获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等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串口（波特率、校验等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外部中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4. EEPROM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5. AD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5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24"/>
          <p:cNvSpPr/>
          <p:nvPr/>
        </p:nvSpPr>
        <p:spPr>
          <a:xfrm>
            <a:off x="838080" y="358920"/>
            <a:ext cx="62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准备方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"/>
          <p:cNvCxnSpPr/>
          <p:nvPr/>
        </p:nvCxnSpPr>
        <p:spPr>
          <a:xfrm>
            <a:off x="921960" y="1123560"/>
            <a:ext cx="2337480" cy="13320"/>
          </a:xfrm>
          <a:prstGeom prst="straightConnector1">
            <a:avLst/>
          </a:prstGeom>
          <a:ln w="6480">
            <a:solidFill>
              <a:srgbClr val="ffffff"/>
            </a:solidFill>
            <a:miter/>
          </a:ln>
        </p:spPr>
      </p:cxnSp>
      <p:sp>
        <p:nvSpPr>
          <p:cNvPr id="77" name=""/>
          <p:cNvSpPr/>
          <p:nvPr/>
        </p:nvSpPr>
        <p:spPr>
          <a:xfrm>
            <a:off x="587520" y="123660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熟悉各个模块及其原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9800" y="1808280"/>
            <a:ext cx="115984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5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24"/>
          <p:cNvSpPr/>
          <p:nvPr/>
        </p:nvSpPr>
        <p:spPr>
          <a:xfrm>
            <a:off x="838080" y="358920"/>
            <a:ext cx="62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准备方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"/>
          <p:cNvCxnSpPr/>
          <p:nvPr/>
        </p:nvCxnSpPr>
        <p:spPr>
          <a:xfrm>
            <a:off x="921960" y="1123560"/>
            <a:ext cx="2337480" cy="13320"/>
          </a:xfrm>
          <a:prstGeom prst="straightConnector1">
            <a:avLst/>
          </a:prstGeom>
          <a:ln w="6480">
            <a:solidFill>
              <a:srgbClr val="ffffff"/>
            </a:solidFill>
            <a:miter/>
          </a:ln>
        </p:spPr>
      </p:cxnSp>
      <p:sp>
        <p:nvSpPr>
          <p:cNvPr id="81" name=""/>
          <p:cNvSpPr/>
          <p:nvPr/>
        </p:nvSpPr>
        <p:spPr>
          <a:xfrm>
            <a:off x="587520" y="123660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熟悉各个模块及其原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2165400" y="2070000"/>
            <a:ext cx="668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重点：键盘 数码管 继电器 蜂鸣器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LED DS1032 DS18B20 PCF8591 AT24C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2079720" y="3546360"/>
            <a:ext cx="66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会编程：超声波 串口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LCD1602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红外 测频率霍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5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24"/>
          <p:cNvSpPr/>
          <p:nvPr/>
        </p:nvSpPr>
        <p:spPr>
          <a:xfrm>
            <a:off x="838080" y="358920"/>
            <a:ext cx="62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准备方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"/>
          <p:cNvCxnSpPr/>
          <p:nvPr/>
        </p:nvCxnSpPr>
        <p:spPr>
          <a:xfrm>
            <a:off x="921960" y="1123560"/>
            <a:ext cx="2337480" cy="13320"/>
          </a:xfrm>
          <a:prstGeom prst="straightConnector1">
            <a:avLst/>
          </a:prstGeom>
          <a:ln w="6480">
            <a:solidFill>
              <a:srgbClr val="ffffff"/>
            </a:solidFill>
            <a:miter/>
          </a:ln>
        </p:spPr>
      </p:cxnSp>
      <p:sp>
        <p:nvSpPr>
          <p:cNvPr id="86" name=""/>
          <p:cNvSpPr/>
          <p:nvPr/>
        </p:nvSpPr>
        <p:spPr>
          <a:xfrm>
            <a:off x="587520" y="123660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有一套自己的编程习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2232000" y="2004840"/>
            <a:ext cx="7081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①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重要的是对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各个模块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编程方式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熟稔于心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在竞赛中才不会手忙脚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②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会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测试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自己代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③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养成代码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模块化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的习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5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24"/>
          <p:cNvSpPr/>
          <p:nvPr/>
        </p:nvSpPr>
        <p:spPr>
          <a:xfrm>
            <a:off x="838080" y="358920"/>
            <a:ext cx="62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经验分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"/>
          <p:cNvCxnSpPr/>
          <p:nvPr/>
        </p:nvCxnSpPr>
        <p:spPr>
          <a:xfrm>
            <a:off x="921960" y="1123560"/>
            <a:ext cx="2337480" cy="13320"/>
          </a:xfrm>
          <a:prstGeom prst="straightConnector1">
            <a:avLst/>
          </a:prstGeom>
          <a:ln w="6480">
            <a:solidFill>
              <a:srgbClr val="ffffff"/>
            </a:solidFill>
            <a:miter/>
          </a:ln>
        </p:spPr>
      </p:cxnSp>
      <p:sp>
        <p:nvSpPr>
          <p:cNvPr id="90" name=""/>
          <p:cNvSpPr/>
          <p:nvPr/>
        </p:nvSpPr>
        <p:spPr>
          <a:xfrm>
            <a:off x="641520" y="123660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1.STC-ISP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的使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56240" y="1430280"/>
            <a:ext cx="6956280" cy="501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36480" y="2011320"/>
            <a:ext cx="3884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范例程序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可以参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波特率计算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定时器计算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软件延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串口助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仿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5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24"/>
          <p:cNvSpPr/>
          <p:nvPr/>
        </p:nvSpPr>
        <p:spPr>
          <a:xfrm>
            <a:off x="838080" y="358920"/>
            <a:ext cx="62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经验分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"/>
          <p:cNvCxnSpPr/>
          <p:nvPr/>
        </p:nvCxnSpPr>
        <p:spPr>
          <a:xfrm>
            <a:off x="921960" y="1123560"/>
            <a:ext cx="2337480" cy="13320"/>
          </a:xfrm>
          <a:prstGeom prst="straightConnector1">
            <a:avLst/>
          </a:prstGeom>
          <a:ln w="6480">
            <a:solidFill>
              <a:srgbClr val="ffffff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641520" y="123660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一些细节问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1419120" y="1800360"/>
            <a:ext cx="9694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上电蜂鸣器会响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解决方法：代码第一行要关闭蜂鸣器和继电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键盘问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BTN = button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是独立按键；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KBD = keyborad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是矩阵键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建议：统一用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矩阵键盘 注意转接板问题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3. PCF8591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读不同通道数据会异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解决方法：写两边读函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1:34:15Z</dcterms:created>
  <dc:creator>D13001</dc:creator>
  <dc:description/>
  <dc:language>en-US</dc:language>
  <cp:lastModifiedBy>D13001</cp:lastModifiedBy>
  <dcterms:modified xsi:type="dcterms:W3CDTF">2016-01-18T03:39:16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5</vt:lpwstr>
  </property>
</Properties>
</file>